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83236-4830-4B76-B1D1-E53A5C7D6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6C41C-0E68-4DD6-AE60-B6A137383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E7D5-4A10-43CA-AF8D-4F2A4E5D2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D18A7-E662-4325-A4F9-071CFC269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3AF44-084B-415B-BB01-E158F659CD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DB6204-D414-4EA2-9F0D-6191714AC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E30E11-A161-4183-B0D5-0A7E9488B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DD405-ADAA-4479-957C-174B9D39A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AA8DF-2E64-43A4-8D3F-C6C3DFCC9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4929E-3ABB-4422-AF81-F4B4DFB1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C136DA-F2D7-48C3-A25D-69335DBE4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17E5C-7E6D-44B1-89EE-0D03A0C2F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C8B3-05A2-4F94-8A21-ABB31CACE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BD4F1-9291-429A-A66D-966ACD35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9B2289-DD6F-4535-A11A-1B26EE7C78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2BDBC-86BB-4762-8C8A-C351A70FCA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98F5A-BE09-43D8-8625-776076867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57C5-0581-486D-B441-9B14FF2F3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1D888-D22E-4BA4-BBFE-5D1209FDE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DDED-C162-4908-AB3E-3540A686F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17AF-72A4-4B5E-AEED-93BFA3D68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84FC6-A5FD-47B5-8542-0E14FA332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87D40-7FDD-4042-A50B-E7CEFD51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77EBD-282F-421C-8922-44800CB09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6159D-C498-4AA3-8CA6-3FF518B27E14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8005-CCC3-4CDC-A28B-7F8394A1F03E}" type="slidenum">
              <a:rPr b="0" lang="ko-KR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2</a:t>
            </a:r>
            <a:r>
              <a:rPr b="1" lang="zh-CN" sz="5400" spc="-1" strike="noStrike">
                <a:solidFill>
                  <a:srgbClr val="ffffb7"/>
                </a:solidFill>
                <a:latin typeface="굴림"/>
              </a:rPr>
              <a:t>장 교직의 성격과 </a:t>
            </a:r>
            <a:br>
              <a:rPr sz="5400"/>
            </a:b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          교사의 역할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비형식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적인 구조에서 허용되지 않는 방식으로 자신을 표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형식적 임무수행이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비형식적 구조를 통해 공식적인 조직의 목적이나 절차가 수정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개인의 소질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취미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출신 등의 비형식적 구조가 형식적 구조에 영향을 미침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부수적인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가르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촉진자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는 촉진자가 되어야 한다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급에서의 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형식화된 지식 전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식적인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중재 역할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내면화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을 위한 올바른 평가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아실현과 동기부여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역할극이 마감되는 것을 인지하는 교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자질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품과 전문성 겸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이상적인 교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언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실천적 접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한국교육개발원의 연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대정신에 따라 교육내용과 방법이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사의 자질도 달라짐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그러나 봉사와 사명감은 존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성에 기초한 학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심의 교직의 실행력은 곧 바람직한 교사의 자질로 재현될 것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람이 그리운 사회에서 사람만이 희망이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이란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?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와 교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사와 의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죄인과 인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특징과 중요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인간의 정신생활을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3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미성숙자를 대상으로 하는 직업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4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봉사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5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국가와 민족에 영향을 미치는 전문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6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사회진보에 중요한 역할을 담당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7)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기향상을 도모하기 유리한 직업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을 보는 관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성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노동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공 봉사직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전문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직의 전문성과 자율성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계속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율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6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본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직업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에서의 비형식적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부수적인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급에서의 교사의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기본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지식과 기술을 전달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회화 과정을 조력하는 역할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평가의 주체자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평가와 성취평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사의 역할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학교에서의 직업적 역할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피고용인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경영에서의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학교장과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부모와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전문가의 역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다면적인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족관계의 역할을 모두 수행하는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관찰력이 분명하고 정확한 교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7T01:34:59Z</dcterms:created>
  <dc:creator>XPuser</dc:creator>
  <dc:description/>
  <dc:language>en-US</dc:language>
  <cp:lastModifiedBy>XPuser</cp:lastModifiedBy>
  <dcterms:modified xsi:type="dcterms:W3CDTF">2008-09-17T02:16:16Z</dcterms:modified>
  <cp:revision>6</cp:revision>
  <dc:subject/>
  <dc:title>제 2장 교직의 성격과            교사의 역할</dc:title>
</cp:coreProperties>
</file>